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FF14-1C4C-4802-B2B4-6362FEFBC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8770-4C76-4F58-984A-D9EC5FFA2F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128B-A6A8-44B9-A45B-4119F6B08A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3AA0-B742-45B8-AC27-E93608D75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3E94-6AF2-4BD7-9BFF-049B13B0D0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32A2-AB59-4372-8932-A39545BA98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3851-46CE-48DB-8271-CD51454C1C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E147-E038-4CD7-A65D-AEC23B0BEEC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6599-87C0-461D-B97C-ED8797DD18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5AC2-5999-4064-84EB-7F7338882C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E7F-C998-4875-BA2C-164DA0557D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A3BD-D331-4F40-ABCA-63B0A67727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879-693E-4689-95A7-98B11294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409-3BCD-4A76-9A1E-BB280D60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575-10B4-4B8E-99DF-E838392D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BA1-0517-4F43-A002-2EC2D389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744D-5544-4554-ACEE-E25D7DFA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2FE8-6222-440C-843C-FE65A64C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A395-2AFF-473A-965B-706BD99A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3FD7-D003-42B7-9FF9-597D2C86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4328-FED9-4DFF-8F98-F40A3D48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159E-02DA-4A3F-9988-F7D9A0AC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BA12-F023-40F4-8E5F-C7B8B643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F1A-9D28-4C1A-9A0D-AA2FC20C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9F5B-C248-4650-B0ED-70C0167E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6488-E525-4A92-B9FC-5EACEE86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7CF4-7B6D-49BC-8C76-6A2BD643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301F-1C07-45FD-B862-D346FB58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427E-9279-41C8-9039-E3430D09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61DF-6767-4AC2-A470-B96C1D23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9C49-9973-496F-A69B-D5720109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2900-7AAB-49BA-86A5-6FAF11C4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9DEE2-B86F-445E-B466-EF7A6AC1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F4A6-D923-482E-86D5-61C42C44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E51-FFB8-428B-8E1C-30DCFB7D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5C97-FB7D-4C21-94D6-0F0ABF27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3D9C-BF20-4D50-8BA6-8AFBA129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C0DF-2132-4BBF-9B96-71DC94D7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F9F4-653F-41E1-AC57-623CB015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FBB1-A70A-446B-8F00-BD3C1C02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B1DB-B9C4-40DD-8949-8EA9C3E0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7A94-68F2-44C9-91D9-3E18E79F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6B969-8474-464F-A642-2161FB0C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28D78-A254-4070-943D-BFDE8ECF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707ED-3684-499B-AFC1-7FDFC34D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9CE-78E2-4FF9-A695-3A2FF3F8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8E625-2E37-439C-BAD7-7F6B845C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302B1-9353-4482-B0A3-904FE891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6EC0-595E-4602-ABC8-9FB54A40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FAAF7-D0E5-494E-99CE-FA28AD4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3C37-1AD3-46E9-BA94-7B266F70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5394-70FE-45C2-A280-A509EF26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D5C1-A01D-4053-9ABD-517E1CC3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69FA-9E87-47A7-87B5-C2DE6F2F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CF88-7FE7-49E8-8A09-DB064EAE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CFAE-602C-443C-93C8-859CE523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A29-9FFB-4A2B-8963-4547F7E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3D643-1868-4852-B883-5F0DCFEB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9BD4-0862-4629-AA83-7425EEB7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B3028-D198-4CCC-A6A6-30A782FF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4033-5C17-4D1A-90C1-B80E6296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7EC73-E498-4095-AFB5-2350B4B4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2ECA0-2C48-41EE-97F8-4B365AA6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90E1-6E2C-4D2E-B80A-4899B1C1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4F5D5-22AB-4446-B165-50186941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E527E-6932-4F20-AE77-F4814FE0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74BAD-3911-4C59-84FE-A91106FE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A27-971A-4DD3-97CE-2B930463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9F9BB-D195-41F4-A7DF-1F849695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DB9-6020-4BEF-AC3F-4B419047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F08-77FF-4E4D-B702-F2BF2CC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F61-2A6F-40E1-BD3F-698E849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E3B9-BF46-4921-AE01-19153CE3B6E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634E-0D24-462C-8C2C-AAA3C717FD1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5524-C441-4895-AED9-8197FAC0028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E492-F77E-4271-9671-52E3D3475DE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350-EABF-43B9-B802-77892668DA3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352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he Anti-War Movement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Essential Question</a:t>
            </a:r>
            <a:r>
              <a:rPr b="0" lang="en-US" sz="2400" spc="-1" strike="noStrike">
                <a:solidFill>
                  <a:srgbClr val="79766f"/>
                </a:solidFill>
                <a:latin typeface="Verdana"/>
              </a:rPr>
              <a:t>: Who were the people that protested the Vietnam War? And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-38160" y="0"/>
            <a:ext cx="45244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HSUS_ch29_s4_KentStatePhoto"/>
          <p:cNvPicPr/>
          <p:nvPr/>
        </p:nvPicPr>
        <p:blipFill>
          <a:blip r:embed="rId1"/>
          <a:srcRect l="0" t="0" r="15387" b="0"/>
          <a:stretch/>
        </p:blipFill>
        <p:spPr>
          <a:xfrm>
            <a:off x="114480" y="1752480"/>
            <a:ext cx="4609800" cy="41148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6"/>
          <p:cNvSpPr/>
          <p:nvPr/>
        </p:nvSpPr>
        <p:spPr>
          <a:xfrm>
            <a:off x="4800600" y="1857240"/>
            <a:ext cx="411480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Kent St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Universi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in Ohio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four students were shot by National Guardsm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similar confrontation at Jackson State University in Mississippi lef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wo students de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unterprotests were held by those supporting Nixon and the war effor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04920" y="1249200"/>
            <a:ext cx="85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t home, protests escalat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-31680" y="76320"/>
            <a:ext cx="9169200" cy="54100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"/>
          <p:cNvSpPr/>
          <p:nvPr/>
        </p:nvSpPr>
        <p:spPr>
          <a:xfrm>
            <a:off x="226044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youtube.com/watch?v=JVQK8fU99S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ar Protes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560"/>
            <a:ext cx="8076960" cy="41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0 Nixon announced that he had ordered troops into Cambo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intensified—especially on college campu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erupted into viol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 believed that antiwar protesters represented only a minority of Americ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dical antiwar groups turned to violent measures to oppose the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ore and more Americans began to oppose the war when they learned about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y Lai massacr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and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entagon Paper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Increasing Protests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5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y Lai Massa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roops under Lieutenant William Calley killed at least 450 men, women, and children in the village of My Lai while on a search-and-destroy miss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 Vietcong were found in the vill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My Lai massacre was kept quiet at first, but former soldiers began talking about 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is atrocity intensified the divisions between war supporters and oppon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alley was convicted of murder and sentenced to life in prison; he was paroled in 197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4953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Pentagon Pa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collection of secret government documents that traced the history of U.S. military involvement in Vietnam since the Truman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vealed that government officials had been misleading the American people about the war for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aniel Ellsberg leaked the papers to the p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llsberg originally supported the war, but then concluded that few South Vietnamese civilians supported the U.S.-backed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8610480" y="3200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440" y="0"/>
            <a:ext cx="86119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21708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133720" y="0"/>
            <a:ext cx="43434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5295960" cy="42670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lower Pow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5310360" y="1728720"/>
            <a:ext cx="3687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amous Vietnam So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33520" y="380880"/>
            <a:ext cx="8183520" cy="4803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tunate Son- CCR http://www.youtube.com/watch?v=rbNnvPBok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mme Shelter- Rolling Stones http://www.youtube.com/watch?v=n_a0zOLMAf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Gotta Get Out of This Place- The Animals http://www.youtube.com/watch?v=W5ueEVlUUg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0"/>
          <p:cNvSpPr/>
          <p:nvPr/>
        </p:nvSpPr>
        <p:spPr>
          <a:xfrm flipH="1" rot="16200000">
            <a:off x="4837680" y="1942920"/>
            <a:ext cx="3352680" cy="4038840"/>
          </a:xfrm>
          <a:prstGeom prst="upArrowCallout">
            <a:avLst>
              <a:gd name="adj1" fmla="val 25002"/>
              <a:gd name="adj2" fmla="val 25000"/>
              <a:gd name="adj3" fmla="val 20078"/>
              <a:gd name="adj4" fmla="val 51176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9f2936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AutoShape 5"/>
          <p:cNvSpPr/>
          <p:nvPr/>
        </p:nvSpPr>
        <p:spPr>
          <a:xfrm flipH="1" rot="5400000">
            <a:off x="875160" y="2018880"/>
            <a:ext cx="3352680" cy="3886200"/>
          </a:xfrm>
          <a:prstGeom prst="upArrowCallout">
            <a:avLst>
              <a:gd name="adj1" fmla="val 25002"/>
              <a:gd name="adj2" fmla="val 25000"/>
              <a:gd name="adj3" fmla="val 19319"/>
              <a:gd name="adj4" fmla="val 48129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9f2936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762120" y="2362320"/>
            <a:ext cx="2666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Doves</a:t>
            </a:r>
            <a:r>
              <a:rPr b="0" lang="en-US" sz="2200" spc="-1" strike="noStrike">
                <a:solidFill>
                  <a:srgbClr val="323232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questioned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war.</a:t>
            </a:r>
            <a:r>
              <a:rPr b="0" lang="en-US" sz="2200" spc="-1" strike="noStrike">
                <a:solidFill>
                  <a:srgbClr val="323232"/>
                </a:solidFill>
                <a:latin typeface="Verdana"/>
                <a:ea typeface="Arial"/>
              </a:rPr>
              <a:t> They included liberal politicians and students who saw the conflict as a localized civil w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5715000" y="2362320"/>
            <a:ext cx="2743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Hawks</a:t>
            </a:r>
            <a:r>
              <a:rPr b="0" lang="en-US" sz="2200" spc="-1" strike="noStrike">
                <a:solidFill>
                  <a:srgbClr val="323232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upported Johnson’s war policies.</a:t>
            </a:r>
            <a:r>
              <a:rPr b="0" lang="en-US" sz="2200" spc="-1" strike="noStrike">
                <a:solidFill>
                  <a:srgbClr val="323232"/>
                </a:solidFill>
                <a:latin typeface="Verdana"/>
                <a:ea typeface="Arial"/>
              </a:rPr>
              <a:t> They were mostly conservatives who believed the war was crucial to a U.S. Cold War victory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14" descr="hsus_ch29_s2_dove"/>
          <p:cNvPicPr/>
          <p:nvPr/>
        </p:nvPicPr>
        <p:blipFill>
          <a:blip r:embed="rId1"/>
          <a:stretch/>
        </p:blipFill>
        <p:spPr>
          <a:xfrm>
            <a:off x="3276720" y="20955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hsus_ch29_s2_hawk2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3733920" y="3368520"/>
            <a:ext cx="2214360" cy="2041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oves vs. Hawk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304920" y="1447920"/>
            <a:ext cx="26668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Media’s Impact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Reporters and television crews went on patrol with the soldi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Television brought scenes of firefights and burning villages into America’s living roo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Criticized the government’s reports about the w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048120" y="1447920"/>
            <a:ext cx="2666880" cy="44956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Hawks and Do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Dove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—people opposed to the w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Hawk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—people who supported the war’s go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Both criticized the war effo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Hawks wanted more troops and bomb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Doves opposed the war for many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Public Opinion Regarding the Vietnam War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867888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867888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867888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5791320" y="1447920"/>
            <a:ext cx="28954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26080" indent="-226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Antiwar Movemen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Movement attracted a broad range of 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Much antiwar activity took place on college campu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Most vocal group—Students for a Democratic Socie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Antiwar protesters made up a small percentage of the U.S. popul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Reasons that Doves Opposed the War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0880" y="1371600"/>
            <a:ext cx="83059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Vietnam was not crucial to American national 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United States was fighting against the wishes of a majority of Vietnam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war was draining needed resources from Great Society progra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it was unfair for African Americans to fight for democracy in a foreign land when discrimination continued at h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Johnson’s policies were too extr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9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5"/>
          <p:cNvSpPr/>
          <p:nvPr/>
        </p:nvSpPr>
        <p:spPr>
          <a:xfrm>
            <a:off x="838080" y="3124080"/>
            <a:ext cx="7162920" cy="266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9f2936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29"/>
          <p:cNvSpPr/>
          <p:nvPr/>
        </p:nvSpPr>
        <p:spPr>
          <a:xfrm>
            <a:off x="838080" y="1384200"/>
            <a:ext cx="792504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s more troops died and no clear victory emerged, increasing numbers of Americans opposed the Vietnam W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Many people opposed the policies of the dra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130"/>
          <p:cNvSpPr/>
          <p:nvPr/>
        </p:nvSpPr>
        <p:spPr>
          <a:xfrm>
            <a:off x="1066680" y="3309840"/>
            <a:ext cx="67057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ore than 1.5 million young men were drafted during the Vietnam W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ny argued the draft unfairly gave deferments to stud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ost of 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drafte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ame from a poor or working-class backgrou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6"/>
          <p:cNvSpPr/>
          <p:nvPr/>
        </p:nvSpPr>
        <p:spPr>
          <a:xfrm>
            <a:off x="4648320" y="2438280"/>
            <a:ext cx="419076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frican Americans wer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ess likely than white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beco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mmissioned officers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y were more likely to serve, and die, in combat posi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8088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number of African Americans fighting in Vietnam was disproportionately hig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6" descr="HSUS_ch29_s3_AfricanAmericanVietnamGraph"/>
          <p:cNvPicPr/>
          <p:nvPr/>
        </p:nvPicPr>
        <p:blipFill>
          <a:blip r:embed="rId1"/>
          <a:stretch/>
        </p:blipFill>
        <p:spPr>
          <a:xfrm>
            <a:off x="609480" y="2209680"/>
            <a:ext cx="3810240" cy="38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h29_images_hsus_se_p1000"/>
          <p:cNvPicPr/>
          <p:nvPr/>
        </p:nvPicPr>
        <p:blipFill>
          <a:blip r:embed="rId1"/>
          <a:srcRect l="0" t="1810" r="0" b="0"/>
          <a:stretch/>
        </p:blipFill>
        <p:spPr>
          <a:xfrm>
            <a:off x="-190440" y="1219320"/>
            <a:ext cx="6057720" cy="46479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9"/>
          <p:cNvSpPr/>
          <p:nvPr/>
        </p:nvSpPr>
        <p:spPr>
          <a:xfrm>
            <a:off x="5943600" y="15858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equalities in the draft led to widespread resistance again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w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943600" y="399240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In 1969, the draft was restructured to introduce a lottery syst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7"/>
          <p:cNvSpPr/>
          <p:nvPr/>
        </p:nvSpPr>
        <p:spPr>
          <a:xfrm>
            <a:off x="685800" y="1447920"/>
            <a:ext cx="7772400" cy="434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1066680" y="1676520"/>
            <a:ext cx="6934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tudents’ opposition to the war grew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275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lleges and universities became centers of antiwar activis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275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ost upper middle-class students oppose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; working-class students generally supported the w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2750"/>
              </a:spcAft>
              <a:buClr>
                <a:srgbClr val="ff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tudents for a Democratic Society (SD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ampaigned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end the war in Vietn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1981080" y="5867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youtube.com/watch?v=mDiFkckszC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380880" y="1143000"/>
            <a:ext cx="250848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Campus Viol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Kent State University in Oh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4 students were killed and 9 inju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Jackson State College in Mississi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2 students were killed and 9 wou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971800" y="1143000"/>
            <a:ext cx="2819520" cy="48006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Antiwar Mo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Polls showed that fifty percent of Americans opposed the w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Coalition of clergy, trade unionists, and veterans established a nationwide day of protest called Moratorium D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250,000 protesters made up the largest antiwar demonstration in U.S. hist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Increasing Protest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853452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853452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3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"/>
          <p:cNvSpPr/>
          <p:nvPr/>
        </p:nvSpPr>
        <p:spPr>
          <a:xfrm>
            <a:off x="5943600" y="1143000"/>
            <a:ext cx="251460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Radical Protest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Some antiwar groups turned to violent meas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The Weathermen set off more than 5,000 bombs and carried out the Days of 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Most antiwar protesters did not support extremist groups or terrorist meas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2:25:30Z</dcterms:created>
  <dc:creator>Gille, Brock</dc:creator>
  <dc:description/>
  <dc:language>en-US</dc:language>
  <cp:lastModifiedBy>Sacerdote, Kevin R.</cp:lastModifiedBy>
  <dcterms:modified xsi:type="dcterms:W3CDTF">2016-03-30T15:17:55Z</dcterms:modified>
  <cp:revision>10</cp:revision>
  <dc:subject/>
  <dc:title>PowerPoint Presentation</dc:title>
</cp:coreProperties>
</file>